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F9F-C252-4A9C-96FC-77A88CFE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8C5-E6D7-4F5E-ADE8-50FFA70D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172-40E8-4F5F-8DF7-01AEF70D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7F9-0D6A-4FC9-9ED9-3BC0F14D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2F1E-6200-4171-B850-8C45A093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2996-3C30-4005-9578-A199C68F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05CB-3CA5-4679-874C-DB9488B7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5153-B0B7-414E-8B9C-646FA89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A77B-7539-4588-9D16-23E3D72E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37BA-94D2-4E0A-AD48-D9D488D4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95D3-51B0-4F66-A44C-E3DD629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1B3-8639-46B2-B35B-B7F776AB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A7DF-E387-4A2F-8169-81282DA7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9578-6765-4380-A3E0-B17CEE84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4B1B-E2C8-4AFD-B3EE-DC3CB372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52D3-FEB6-4B3C-A6DC-38D69DD8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F391-7A88-40D0-BE7D-242E15E7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A01-98E6-4AEC-8260-C3373C0E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5B6-33F5-4F7B-A619-7979B7FD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7EA-8B39-4852-9742-C719006C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4C5-9331-43AC-8E38-6822061C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DDE-BAB6-4FD8-8718-DC53B3E8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928-C0C5-41A4-A4CD-1F2A1C9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3A1-2C00-4223-91C2-9123F5A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CDCF-A4AD-42ED-850B-F5604CB2AB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4AAB-EBDD-4265-A726-24BDD0D6185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ffffcc"/>
                </a:solidFill>
                <a:latin typeface="Arial"/>
              </a:rPr>
              <a:t>The Changing Marketing Environmen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Chapter 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Uncontrollable 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is chapter takes an in-depth look at the uncontrollable marketing environment in Canada to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Organizations cannot effect the marketing environment, instead they are affected by it.  Successful organizations spot trends in the environment and capitalise on these trend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Remembering from Chapter 1, The uncontrollable factors includ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ocial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Economic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echnological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ompetitive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Regulatory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ocial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ocial forces relate to changes, and events that are occurring in society.  Key indicators of change ar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94320" indent="-198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Demographic Shif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92120" indent="-1987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emographics is a study/measure of peoples ages, sex, income levels, where they live, and ethnicit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392120" indent="-1987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Be aware or key terms such as Mature Housholds,  Baby Boomers, Generation X, Blended Families and Regional Marketing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94320" indent="-198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ultural Chang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92120" indent="-1987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ulture is a reflection of a societies shared values and Beliefs.  Attitudes are changing and so is the makeup of our society.  People are more conscious of Value and the Natural Environme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Economic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Economics deals with issues of income and expenditures in our society.  Key measures of change in economic conditions arise from changes in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 Canadian economy at large (macroeconomic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nsumer Incom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1995480" indent="-2214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Gross Income - Taxes = Disposable Incom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995480" indent="-2214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isposable Income - necessities = Discretionary Incom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echnological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echnology is changing faster than ever.  Witness how quickly your new computer will become obsole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is rapid change poses quite a large challenge for many organiza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E-Busine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Internet has made doing business anywhere &amp; anytime possi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mpetitive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ompetition refers to the number of alternatives a consumer has when buying a particular product or servi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re are varying degrees of competitive environmen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487880" indent="-212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onopoly - No Competition - only one sell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487880" indent="-212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Oligopoly - Limited Competition - Two or three sell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487880" indent="-212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onopolistic Competition - Many sellers offering substitutable products (Coke, Pepsi, Orange Juic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487880" indent="-212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ure Competition - Many sellers selling similar or same product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omponents of Competi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Barriers to Ent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ompetition may affect a company’s ability to enter a market easily.  There may be many Barriers to Entry in place to limit the growth of competi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uppliers of raw material may help limit competition in an industry by refusing to sell to a new entr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Buyers of products may aid in limited competition by being reluctant to buy from an new entrant into the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ompetitors may try to limit competition buy forcing new entrants out of the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Global Competition has helped to increase the overall level of competition.  Many companies are forming world-wide partnerships called Strategic Allianc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Regulatory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Regulation is a basic set of rules/laws set down by either the industry in question (self-regulation) or by government that effects how that business operates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Most regulation is designed to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rotect Customers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rotect Competi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o stem off government imposed regulation, many industries have decided to self-regulat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nsumerism is a movement among consumers to fight for better protection from bad or corrupt business practices and bad produc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17:51:22Z</dcterms:created>
  <dc:creator>Debbie Vincent</dc:creator>
  <dc:description/>
  <dc:language>en-US</dc:language>
  <cp:lastModifiedBy>Paul Tilley</cp:lastModifiedBy>
  <dcterms:modified xsi:type="dcterms:W3CDTF">2003-09-26T12:45:04Z</dcterms:modified>
  <cp:revision>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